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8.jpeg" ContentType="image/jpeg"/>
  <Override PartName="/ppt/media/image14.jpeg" ContentType="image/jpeg"/>
  <Override PartName="/ppt/media/image1.jpeg" ContentType="image/jpeg"/>
  <Override PartName="/ppt/media/image15.wmf" ContentType="image/x-wmf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179-6251-4BDD-A9D4-FB740CBB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445-4265-44AA-9731-F6D6D2E4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0BD-1BF0-4853-B1B4-DA7BC964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1E0-035A-4C58-A92B-8B85F657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F554-CDCA-4B51-B7BB-8ACAE527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A400-D60E-4460-A344-75F9C978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86E9-487A-4DA9-A2F1-D098117E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FB61-718E-4048-A09F-C2054EEC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327D-49AD-476D-9CB1-F0672DE7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B1F4-D9A8-494A-9EBE-E2868A97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E074-4F7F-4E83-9F72-39C70E1B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605-4384-4AC8-A0F2-089BA602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5B9D-C744-44F4-BDFF-F53EBDD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20AD-47E1-4EE2-92B0-D7FB3187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5D11-760E-43D7-96B7-914D5157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994A-85BF-4F4E-81FE-B3B8AB11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249D-09DE-4217-A11F-D29B3D9A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3D8-D3B3-4DC3-BFCD-1D6460FC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E1A-6702-456D-8A0A-880E5202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A45-5D20-4F67-818E-E62A2634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364-E1E3-4EE4-80BB-95E4F0A0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F97-1C8F-48A9-91D1-A02A92E7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00D-1C65-4744-9BCC-5DFD0C20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991-97AE-4970-82F8-298BC6CD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e3ffff"/>
                </a:gs>
                <a:gs pos="100000">
                  <a:srgbClr val="66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0880-905C-4B4E-B02F-8AD31BDBC3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E653-F512-4D77-A203-00FEE7CCA4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573360"/>
            <a:ext cx="8353440" cy="1727280"/>
          </a:xfrm>
          <a:prstGeom prst="rect">
            <a:avLst/>
          </a:prstGeom>
          <a:noFill/>
          <a:ln cap="rnd" w="3240">
            <a:solidFill>
              <a:srgbClr val="e3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Решение задач части В</a:t>
            </a:r>
            <a:br>
              <a:rPr sz="4400"/>
            </a:br>
            <a:br>
              <a:rPr sz="4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435640" y="404280"/>
            <a:ext cx="3168720" cy="2232360"/>
          </a:xfrm>
          <a:prstGeom prst="rect">
            <a:avLst/>
          </a:prstGeom>
          <a:noFill/>
          <a:ln cap="rnd" w="0">
            <a:solidFill>
              <a:srgbClr val="e3ffff"/>
            </a:solidFill>
            <a:custDash>
              <a:ds d="100000" sp="1000"/>
            </a:custDash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М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лешк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уева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7920" y="1268280"/>
            <a:ext cx="6310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1) 15% = 0,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2) 40 </a:t>
            </a:r>
            <a:r>
              <a:rPr b="1" lang="en-US" sz="26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0,15 = 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3) 40 – 6 =  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4) 550 : 34 = 275 : 17 = 16,176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Ответ: 16 тетрад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4869000"/>
            <a:ext cx="2376360" cy="1485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700360" y="3789360"/>
            <a:ext cx="7192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3789360"/>
            <a:ext cx="7189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3789360"/>
            <a:ext cx="64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3789360"/>
            <a:ext cx="64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1328400">
            <a:off x="6659640" y="5013000"/>
            <a:ext cx="987480" cy="12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адача (в1, №2593)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7920" y="1268280"/>
            <a:ext cx="6310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Железнодорожный билет для взрослого стоит 530 рублей. Стоимость билета школьника составляет 50% от стоимости билета для взрослого. В группе 14 школьников и 3 взрослых. Сколько рублей стоят билеты на всю групп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00720" y="4724280"/>
            <a:ext cx="3916080" cy="18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052640"/>
            <a:ext cx="6400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1) 530 </a:t>
            </a:r>
            <a:r>
              <a:rPr b="1" lang="en-US" sz="26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3 = 159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2) 50% = 0,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3) 530 </a:t>
            </a:r>
            <a:r>
              <a:rPr b="1" lang="en-US" sz="26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0,5 = 26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4) 265 </a:t>
            </a:r>
            <a:r>
              <a:rPr b="1" lang="en-US" sz="26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14 = 37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5) 1590 + 3710 = 53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Ответ: 5300 рубл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437000"/>
            <a:ext cx="792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4437000"/>
            <a:ext cx="792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19640" y="4437000"/>
            <a:ext cx="792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0720" y="4437000"/>
            <a:ext cx="792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56360" y="4797360"/>
            <a:ext cx="2448000" cy="17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адача (в1, №2603)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23640" y="1268280"/>
            <a:ext cx="65516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Цена на электрический чайник была повышена на 22% и составила 1830 рублей. Сколько рублей стоил товар до повышения цены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187c16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187c16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56000" y="3860640"/>
            <a:ext cx="2754360" cy="2171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948360" y="4437000"/>
            <a:ext cx="187812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1267920"/>
            <a:ext cx="6381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1830 руб. - 10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    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х руб.    -  78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100 </a:t>
            </a:r>
            <a:r>
              <a:rPr b="1" lang="en-US" sz="26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х = 1830 </a:t>
            </a:r>
            <a:r>
              <a:rPr b="1" lang="en-US" sz="26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0,78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х = 142740 :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х = 1427,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1427,4 округляем до 1427, так как речь идет о рубля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Ответ: 1427 рублей стоил товар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53006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53006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53006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27640" y="53006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948360" y="5013360"/>
            <a:ext cx="1708200" cy="1716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203640" y="1413000"/>
            <a:ext cx="0" cy="792000"/>
          </a:xfrm>
          <a:prstGeom prst="line">
            <a:avLst/>
          </a:prstGeom>
          <a:ln w="19080">
            <a:solidFill>
              <a:srgbClr val="e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1341360"/>
            <a:ext cx="0" cy="79236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1413000"/>
            <a:ext cx="0" cy="79200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адача (в1, №2581)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195640" y="1268280"/>
            <a:ext cx="66974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c1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В супермаркете проходит рекламная акция: покупая 3 шоколадки, 4-ю шоколадку покупатель получает в подарок. Шоколадка стоит 25 рублей.  Какое наибольшее число шоколадок получит покупатель за 230 рубл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24360" y="4724280"/>
            <a:ext cx="248148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10920" y="1197000"/>
            <a:ext cx="6481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1) 230 : 25 = 9,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9,2 округляем до 9, так ка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продукты не делятся на ча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2) 9 : 3 =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3) 9 + 3 = 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Ответ: 12 шоколадок получи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покуп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8800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4800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15772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124440" cy="20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Задача (в1 №2607)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16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c1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Футболка стоила 800 рублей. После снижения цены она стала стоить 680 рублей. На сколько процентов была снижена цена на футболк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12000" y="3933720"/>
            <a:ext cx="2447640" cy="2303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0" t="35497" r="0" b="0"/>
          <a:stretch/>
        </p:blipFill>
        <p:spPr>
          <a:xfrm rot="20379000">
            <a:off x="2617560" y="4279680"/>
            <a:ext cx="259236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339640" y="1341000"/>
            <a:ext cx="649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800 рублей - 10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     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680 рублей  -   х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1) 800х = 680 </a:t>
            </a:r>
            <a:r>
              <a:rPr b="1" lang="en-US" sz="26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Х = (680 </a:t>
            </a:r>
            <a:r>
              <a:rPr b="1" lang="en-US" sz="26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100) : 8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Х = 85 (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2)  100% - 85% =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Ответ: на 15% была снижена цена на футбол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1773360"/>
            <a:ext cx="0" cy="792000"/>
          </a:xfrm>
          <a:prstGeom prst="line">
            <a:avLst/>
          </a:prstGeom>
          <a:ln cap="rnd" w="0">
            <a:solidFill>
              <a:srgbClr val="e3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773360"/>
            <a:ext cx="0" cy="792000"/>
          </a:xfrm>
          <a:prstGeom prst="line">
            <a:avLst/>
          </a:prstGeom>
          <a:ln w="19080">
            <a:solidFill>
              <a:srgbClr val="e3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5734080"/>
            <a:ext cx="7189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5734080"/>
            <a:ext cx="71928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6000" y="5734080"/>
            <a:ext cx="71928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6720" y="5734080"/>
            <a:ext cx="71928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640" y="1700280"/>
            <a:ext cx="0" cy="865080"/>
          </a:xfrm>
          <a:prstGeom prst="line">
            <a:avLst/>
          </a:prstGeom>
          <a:ln cap="rnd" w="0">
            <a:solidFill>
              <a:srgbClr val="e3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00360" y="1773360"/>
            <a:ext cx="0" cy="792000"/>
          </a:xfrm>
          <a:prstGeom prst="line">
            <a:avLst/>
          </a:prstGeom>
          <a:ln cap="rnd" w="0">
            <a:solidFill>
              <a:srgbClr val="e3ff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2360" y="1484280"/>
            <a:ext cx="0" cy="865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1484280"/>
            <a:ext cx="0" cy="86508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10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18864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адача (в1, №2581)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195280" y="981000"/>
            <a:ext cx="6948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100" spc="-1" strike="noStrike">
                <a:solidFill>
                  <a:srgbClr val="187c16"/>
                </a:solidFill>
                <a:latin typeface="Arial"/>
              </a:rPr>
              <a:t>Интернет-провайдер (компания, оказывающая услуги по подключению к сети Интернет) предлагает три тарифных плана. Пользователь планирует, что его трафик составит 570Мб и, исходя из этого выбирает наиболее дешевый тарифный план. Сколько рублей заплатит пользователь за месяц , если его трафик действительно будет  равен 570Мб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411280" y="3789360"/>
          <a:ext cx="6427800" cy="2879280"/>
        </p:xfrm>
        <a:graphic>
          <a:graphicData uri="http://schemas.openxmlformats.org/drawingml/2006/table">
            <a:tbl>
              <a:tblPr/>
              <a:tblGrid>
                <a:gridCol w="2142360"/>
                <a:gridCol w="2142720"/>
                <a:gridCol w="214272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иф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онентск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а за траф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лан «0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рубля за 1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лан «500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 р. за 500Мб трафик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уб. за 1Мб сверх 500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лан «800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 р. за 800Мб трафика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 руб. за 1Мб сверх 800М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66434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хема решения практико-ориентированных задач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844280"/>
            <a:ext cx="640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Прочитать задач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обдумать метод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Решить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Проверить решение на соответствие реальным услов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Записать ответ ( он может быть выражен целым числом или десятичной дробью с ограниченным количеством     десятичных знаков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7920" y="1341360"/>
            <a:ext cx="6705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а)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570 </a:t>
            </a:r>
            <a:r>
              <a:rPr b="1" lang="en-US" sz="2600" spc="-1" strike="noStrike">
                <a:solidFill>
                  <a:srgbClr val="006600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2,5 =1425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(рублей по плану «0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б) 550 + 2 </a:t>
            </a:r>
            <a:r>
              <a:rPr b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70 = 550 + 140 = 69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(рублей по плану «500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в) 700 рублей план «80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Ответ: 690 рублей заплатит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пользователь за  месяц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4797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4797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19640" y="4797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00360" y="4797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227640" y="4653000"/>
            <a:ext cx="2376720" cy="17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адача (в1)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050920" y="907560"/>
            <a:ext cx="678816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Для транспортировки 45 тонн груза на 130 км можно использовать одного из трёх перевозчиков. Причем у каждого из них своя грузоподъемность используемых автомобилей. Сколько рублей придется заплатить за самую дешевую перевозку за один рей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627280" y="3645000"/>
          <a:ext cx="6121440" cy="2835000"/>
        </p:xfrm>
        <a:graphic>
          <a:graphicData uri="http://schemas.openxmlformats.org/drawingml/2006/table">
            <a:tbl>
              <a:tblPr/>
              <a:tblGrid>
                <a:gridCol w="1584360"/>
                <a:gridCol w="2376360"/>
                <a:gridCol w="2160720"/>
              </a:tblGrid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зч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перевозки одним автомоби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уб. на 100 к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зоподъём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моби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0 рубл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68000" y="907920"/>
            <a:ext cx="68756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а) 45 : 3,5 = 12,857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12,857 округляем до13 (целое число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3200 </a:t>
            </a:r>
            <a:r>
              <a:rPr b="1" lang="en-US" sz="20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 13 = 41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41600 </a:t>
            </a:r>
            <a:r>
              <a:rPr b="1" lang="en-US" sz="20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 1,3 = 54080 (руб. - перевозчик 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б) 45 : 5 =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4100 </a:t>
            </a:r>
            <a:r>
              <a:rPr b="1" lang="en-US" sz="20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187c1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= 369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36900 </a:t>
            </a:r>
            <a:r>
              <a:rPr b="1" lang="en-US" sz="20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1,3 = 47970 (руб. - перевозчик Б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в) 45 : 12 = 3,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3,75 округляем до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9500 </a:t>
            </a:r>
            <a:r>
              <a:rPr b="1" lang="en-US" sz="20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 4 = 38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38000 </a:t>
            </a:r>
            <a:r>
              <a:rPr b="1" lang="en-US" sz="20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 1,3 = 49400 (руб. - перевозчик 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187c16"/>
                </a:solidFill>
                <a:latin typeface="Arial"/>
              </a:rPr>
              <a:t>Ответ: 47900 рублей – самая дешевая перевозка (перевозчик Б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636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3564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1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10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1000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адача (в1, №2551)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050920" y="1341360"/>
            <a:ext cx="6408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Аня купила месячный проездной билет на автобус. За месяц она сделала 44 поездки. Сколько рублей она сэкономила, если проездной билет стоит 600рублей, а разовая поездка 20 рублей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059280" y="4292640"/>
            <a:ext cx="4537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1197000"/>
            <a:ext cx="6526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1) 44 </a:t>
            </a:r>
            <a:r>
              <a:rPr b="1" lang="en-US" sz="26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20 = 88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2) 880 – 600 = 28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6600"/>
                </a:solidFill>
                <a:latin typeface="Arial"/>
              </a:rPr>
              <a:t>Ответ: 280 рублей сэкономила А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700360" y="4437000"/>
            <a:ext cx="3124080" cy="2082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859280" y="28526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40360" y="28526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19640" y="28526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285264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796000" y="4437000"/>
            <a:ext cx="176832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907640" y="1196640"/>
            <a:ext cx="6931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Больному прописано лекарство, которое нужно пить по 0,25г 3 раза в день в течении 18 дней. Лекарство продаётся в упаковках по 8 таблеток по 0,25г. Какое наименьшее количество упаковок хватит на весь курс ле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ча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ля приготовления маринада для огурцов на 1 литр воды требуется 18г лимонной кислоты. Хозяйка готовит 7 литров маринада. В магазине продается пачка лимонной  кислоты по10г. Какое наименьшее число пачек нужно купить хозяйке для приготовления марина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050920" y="1125360"/>
            <a:ext cx="6788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ча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Флакон шампуня стоит 160 рублей. Какое наибольшее число флаконов   можно купить на 700 рублей во время распродажи, когда скидка составляет 35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Задача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 супермаркете проходит рекламная акция: покупая 2 шоколадки, 3-ю шоколадку покупатель получает в подарок. Шоколадка стоит 30 рублей.  Какое наибольшее число шоколадок получит покупатель за 500 руб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84360" y="228240"/>
            <a:ext cx="63547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123640" y="907560"/>
            <a:ext cx="6715080" cy="60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Задача №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ля остекления веранды требуется заказать 28 одинаковых стекол в одной из трёх фирм. Площадь каждого стекла 0,25 кв.м. В таблице приведены цены на стекло, а также на резку стекол и шлифовку края. Сколько рублей нужно заплатить за самый выгодный заказ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627280" y="4076640"/>
          <a:ext cx="6121440" cy="2725920"/>
        </p:xfrm>
        <a:graphic>
          <a:graphicData uri="http://schemas.openxmlformats.org/drawingml/2006/table">
            <a:tbl>
              <a:tblPr/>
              <a:tblGrid>
                <a:gridCol w="1211400"/>
                <a:gridCol w="2690640"/>
                <a:gridCol w="22194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стекла (руб. за 1 кв.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а и шлифовка (руб. за одно стекл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верь себя!!!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68000" y="1052640"/>
            <a:ext cx="6875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87c16"/>
                </a:solidFill>
                <a:latin typeface="Arial"/>
              </a:rPr>
              <a:t>Ответ №1: 7 упаков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87c16"/>
                </a:solidFill>
                <a:latin typeface="Arial"/>
              </a:rPr>
              <a:t>Ответ №2: 13 упаков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87c16"/>
                </a:solidFill>
                <a:latin typeface="Arial"/>
              </a:rPr>
              <a:t>Ответ №3: 6 флакон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87c16"/>
                </a:solidFill>
                <a:latin typeface="Arial"/>
              </a:rPr>
              <a:t>Ответ №4: 24 шоколадк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87c16"/>
                </a:solidFill>
                <a:latin typeface="Arial"/>
              </a:rPr>
              <a:t>Ответ №4: 3465 рублей в фирме 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2436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0364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8436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3280" y="2637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328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2436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0364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148428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1636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9564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56000" y="378936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9564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6000" y="4941720"/>
            <a:ext cx="720720" cy="6480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9564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56000" y="6093000"/>
            <a:ext cx="72072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 rot="2334600">
            <a:off x="6011640" y="2781360"/>
            <a:ext cx="2658960" cy="168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1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10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35280" y="228240"/>
            <a:ext cx="73087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хема решения заданий части В: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6481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олучило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а                     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нова дерз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203640" y="1413000"/>
            <a:ext cx="4248000" cy="517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>
                    <a:alpha val="73000"/>
                  </a:srgbClr>
                </a:solidFill>
                <a:latin typeface="Times New Roman"/>
              </a:rPr>
              <a:t>Дерзай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>
                  <a:alpha val="73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700360" y="2205000"/>
            <a:ext cx="5761080" cy="93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>
                    <a:alpha val="74000"/>
                  </a:srgbClr>
                </a:solidFill>
                <a:latin typeface="Times New Roman"/>
              </a:rPr>
              <a:t>У тебя всё получитс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>
                  <a:alpha val="74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552200">
            <a:off x="4211280" y="393372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187c1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20226600">
            <a:off x="6372000" y="393336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solidFill>
            <a:srgbClr val="187c1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88000" y="4941720"/>
            <a:ext cx="432000" cy="503280"/>
          </a:xfrm>
          <a:prstGeom prst="downArrow">
            <a:avLst>
              <a:gd name="adj1" fmla="val 50000"/>
              <a:gd name="adj2" fmla="val 29125"/>
            </a:avLst>
          </a:prstGeom>
          <a:solidFill>
            <a:srgbClr val="187c1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4941720"/>
            <a:ext cx="1873440" cy="17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адача (в1, №2473)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0560" y="1341000"/>
            <a:ext cx="69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Теплоход рассчитан на 600 пассажиров и 20 членов команды. Каждая спасательная шлюпка может вместить 80 человек. Какое наименьшее число шлюпок должно быть на теплоходе, чтобы при необходимости в них можно было разместить всех пассажиров и всех членов команды</a:t>
            </a:r>
            <a:r>
              <a:rPr b="1" lang="en-US" sz="2400" spc="-1" strike="noStrike">
                <a:solidFill>
                  <a:srgbClr val="187c1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292720" y="5084640"/>
            <a:ext cx="3166920" cy="15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7920" y="1341000"/>
            <a:ext cx="6381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) 600 + 20 = 6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) 620 : 80 = 7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7,75 округляем до 8, так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шлюпок должно быть цел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чис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твет: 8 шлюп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24360" y="5300640"/>
            <a:ext cx="1298520" cy="777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59280" y="450864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80000" y="450864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4508640"/>
            <a:ext cx="718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508640"/>
            <a:ext cx="6494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56000" y="5300640"/>
            <a:ext cx="1298520" cy="77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292720" y="5300640"/>
            <a:ext cx="1298520" cy="777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0" r="50125" b="0"/>
          <a:stretch/>
        </p:blipFill>
        <p:spPr>
          <a:xfrm rot="2416200">
            <a:off x="8100720" y="5300640"/>
            <a:ext cx="647640" cy="777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659640" y="5300640"/>
            <a:ext cx="1298520" cy="7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адача (в1, №2559)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95280" y="1600200"/>
            <a:ext cx="662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Больному прописано лекарство, которое нужно пить по 0,25г 2 раза в день в течении 20 дней. Лекарство продаётся в упаковках по 12 таблеток по 0,25г. Какое наименьшее количество упаковок хватит на весь курс леч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32000" y="515772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2000" y="5157720"/>
            <a:ext cx="1904760" cy="12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10920" y="1341000"/>
            <a:ext cx="6310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c1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1) 2 </a:t>
            </a:r>
            <a:r>
              <a:rPr b="1" lang="en-US" sz="28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20 =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2) 40 : 12 = 3,333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3,333… округляем до 4 шту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так как целостность упак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не может быть наруш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Ответ: 4 упак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6360" y="4724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4724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4724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472428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372360" y="5013360"/>
            <a:ext cx="21985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адача (в1, №2573)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6840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Для приготовления маринада для огурцов на 1 литр воды требуется 16г лимонной кислоты. Хозяйка готовит 6 литров маринада. В магазине продается пачка лимонной  кислоты по10г. Какое наименьшее число пачек нужно купить хозяйке для приготовления маринад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80000" y="4869000"/>
            <a:ext cx="313704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268280"/>
            <a:ext cx="61660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)  6 </a:t>
            </a:r>
            <a:r>
              <a:rPr b="1" lang="en-US" sz="2800" spc="-1" strike="noStrike">
                <a:solidFill>
                  <a:srgbClr val="187c16"/>
                </a:solidFill>
                <a:latin typeface="Symbol"/>
                <a:ea typeface="Symbol"/>
              </a:rPr>
              <a:t>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16 = 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) 96 : 10 = 9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9,6 округляем 10, так как пачка  в магазине не делится на ча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Ответ: 10 пач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45395" t="0" r="0" b="17303"/>
          <a:stretch/>
        </p:blipFill>
        <p:spPr>
          <a:xfrm rot="20547600">
            <a:off x="3634920" y="5157720"/>
            <a:ext cx="1327320" cy="135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916360" y="429264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4000" y="429264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429264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4292640"/>
            <a:ext cx="6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0" t="0" r="0" b="17303"/>
          <a:stretch/>
        </p:blipFill>
        <p:spPr>
          <a:xfrm rot="654000">
            <a:off x="6084720" y="5084280"/>
            <a:ext cx="2592720" cy="14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Задача (в1, №2503)</a:t>
            </a:r>
            <a:endParaRPr b="0" lang="en-US" sz="32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79640" y="1600200"/>
            <a:ext cx="66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7c16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Тетрадь стоит 40 рублей. Какое наибольшее количество тетрадей можно купить на 550 рублей после понижения</a:t>
            </a: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187c16"/>
                </a:solidFill>
                <a:latin typeface="Arial"/>
              </a:rPr>
              <a:t>цены на 15%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7c16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187c16"/>
                </a:solidFill>
                <a:latin typeface="Arial"/>
              </a:rPr>
              <a:t>-  % 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5166" t="0" r="2683" b="0"/>
          <a:stretch/>
        </p:blipFill>
        <p:spPr>
          <a:xfrm rot="21069000">
            <a:off x="2339640" y="4005360"/>
            <a:ext cx="1871640" cy="2227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 rot="639000">
            <a:off x="6516360" y="422064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9:11:53Z</dcterms:created>
  <dc:creator>Надежда</dc:creator>
  <dc:description/>
  <dc:language>en-US</dc:language>
  <cp:lastModifiedBy>Надежда</cp:lastModifiedBy>
  <dcterms:modified xsi:type="dcterms:W3CDTF">2009-11-26T06:36:38Z</dcterms:modified>
  <cp:revision>40</cp:revision>
  <dc:subject/>
  <dc:title>Решение задач части В </dc:title>
</cp:coreProperties>
</file>